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8363E-1B80-49B0-9E75-B0DA54D38641}"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40744-1ADF-4B54-93DC-589ADCA26938}"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C61A7-6007-43AE-A4E7-67556B64C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11A53-49DA-4691-9BF7-BEA2DA99C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03465-A201-447E-B661-EC9A3E1E3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ED1A4F-FC68-4C3C-AA44-CC1BF2FCE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59CD7-19DB-4553-9D47-B594ACAA0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50D6D-5B43-41AF-A729-2C8EDFE24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E84B7-D7D5-40CA-83E9-CED898191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7772E-A339-44E9-A9B2-5E0AB580E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B1E8A-0885-46BE-A828-3B8BDCC41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57052-62F2-4E6E-A4B3-D214262E0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2A1C8-111E-4038-8E4A-FB81B2FBD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56B74-E0AE-4741-A97E-8E6E83E4E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FEA0-C90D-40E9-949B-7974D3D9402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13000"/>
            <a:ext cx="7772400" cy="358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ÇENİN SES ÖZELLİKLERİ VE SES BİLGİSİ İLE İLGİLİ KURALLAR</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8. BAŞTA ÇİFT ÜNSÜZ</a:t>
            </a:r>
            <a:endParaRPr b="0" lang="en-US" sz="32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kelimelerin başında çift ünsüz bulunmaz. Bu şekilde kullanılan kelimelerin hepsi Türkçeye başka dillerden gir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rup, tren, klasik, klima, program, spo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9. SONDA ÇİFT ÜNSÜZ</a:t>
            </a:r>
            <a:endParaRPr b="0" lang="en-US" sz="32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 ve kelime sonunda, aşağıdaki ünsüz çiftleri dışında ünsüz grupları bulunma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lç, lk,lp, lt: </a:t>
            </a:r>
            <a:r>
              <a:rPr b="0" lang="tr-TR" sz="2200" spc="-1" strike="noStrike">
                <a:solidFill>
                  <a:srgbClr val="ff0000"/>
                </a:solidFill>
                <a:latin typeface="Times New Roman"/>
                <a:ea typeface="Times New Roman"/>
              </a:rPr>
              <a:t>ölç, ilk, kalp, al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ç,nk,nt: </a:t>
            </a:r>
            <a:r>
              <a:rPr b="0" lang="tr-TR" sz="2200" spc="-1" strike="noStrike">
                <a:solidFill>
                  <a:srgbClr val="ff0000"/>
                </a:solidFill>
                <a:latin typeface="Times New Roman"/>
                <a:ea typeface="Times New Roman"/>
              </a:rPr>
              <a:t>sevinç, denk, an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rç, rk,rp,rs,rt: </a:t>
            </a:r>
            <a:r>
              <a:rPr b="0" lang="tr-TR" sz="2200" spc="-1" strike="noStrike">
                <a:solidFill>
                  <a:srgbClr val="ff0000"/>
                </a:solidFill>
                <a:latin typeface="Times New Roman"/>
                <a:ea typeface="Times New Roman"/>
              </a:rPr>
              <a:t>sürç, ürk, sar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t: </a:t>
            </a:r>
            <a:r>
              <a:rPr b="0" lang="tr-TR" sz="2200" spc="-1" strike="noStrike">
                <a:solidFill>
                  <a:srgbClr val="ff0000"/>
                </a:solidFill>
                <a:latin typeface="Times New Roman"/>
                <a:ea typeface="Times New Roman"/>
              </a:rPr>
              <a:t>ü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e başka dillerden girmiş kelimelerden bu ses özelliğine uymayanlar, araya bir ünlü getirilmek suretiyle Türkçeye uydurulmuştu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ff0000"/>
                </a:solidFill>
                <a:latin typeface="Times New Roman"/>
                <a:ea typeface="Times New Roman"/>
              </a:rPr>
              <a:t>Fikr&gt; fik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İlm&gt; ili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Şükr&gt; şük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0. İKİ ÜNLÜ</a:t>
            </a:r>
            <a:endParaRPr b="0" lang="en-US" sz="32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iki ünlü yan yana gelme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Jeolog, realist, kıraat, fiil, faul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ki ünlü yan yana gelmediği için ünlüyle biten kelimeler, ünlüyle biten ekler aldığı zaman araya -y- sesi gir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İki-y-e, soru-y-u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1. TABİAT TAKLİDİ KELİMELER</a:t>
            </a:r>
            <a:endParaRPr b="0" lang="en-US" sz="32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biat taklidi kelimeler için ses özellikleri açısından herhangi bir sınırlama yoktur.  Bunlar hangi sesle başlarsa başlasın, içinde hangi ses bulunursa bulunsun Türkçe kabul edileb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Fokurtu, hışırtı, miyavlamak, öf, püf, zonklamak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2. SES UYUMLARI</a:t>
            </a:r>
            <a:endParaRPr b="0" lang="en-US" sz="32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yi diğer dillerden ayıran özelliklerden biri de ses uyumlarıdır. Bu uyumlar Türkçe kelimelerde ancak belirli seslerin bir arada bulunmasını gerektir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büyük ünlü uyumu, küçük ünlü uyumu, ünsüz uyumu ve ünlü- ünsüz uyumu olmak üzere dört çeşit uyumdan söz ede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yük Ünlü Uyumu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kelimelerde kalın ünlüleri kalın, ince ünlüleri ince ünlülerin takip etmesi olayı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olup sonradan ses değişikliğine uğrayan anne, kardeş, hangi… gibi kelimeler, -yor, -ken, -leyin, -mtrak, -ki eklerini almış kelimeler, bazı birleşik kelimeler ve yansıma kelimeler istisn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Küçük Ünlü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elimedeki ünlülerin düzlük ve yuvarlaklık bakımından birbirine uymasıdır. Kural ş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üz ünlüleri </a:t>
            </a:r>
            <a:r>
              <a:rPr b="0" lang="tr-TR" sz="2800" spc="-1" strike="noStrike">
                <a:solidFill>
                  <a:srgbClr val="ff0000"/>
                </a:solidFill>
                <a:latin typeface="Times New Roman"/>
                <a:ea typeface="Times New Roman"/>
              </a:rPr>
              <a:t>(a, e, ı, i) </a:t>
            </a:r>
            <a:r>
              <a:rPr b="0" lang="tr-TR" sz="2800" spc="-1" strike="noStrike">
                <a:solidFill>
                  <a:srgbClr val="000000"/>
                </a:solidFill>
                <a:latin typeface="Times New Roman"/>
                <a:ea typeface="Times New Roman"/>
              </a:rPr>
              <a:t>düzler takip eder: </a:t>
            </a:r>
            <a:r>
              <a:rPr b="0" lang="tr-TR" sz="2800" spc="-1" strike="noStrike">
                <a:solidFill>
                  <a:srgbClr val="ff0000"/>
                </a:solidFill>
                <a:latin typeface="Times New Roman"/>
                <a:ea typeface="Times New Roman"/>
              </a:rPr>
              <a:t>açık, birinci, sıcak, sevgi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varlak ünlüleri </a:t>
            </a:r>
            <a:r>
              <a:rPr b="0" lang="tr-TR" sz="2800" spc="-1" strike="noStrike">
                <a:solidFill>
                  <a:srgbClr val="ff0000"/>
                </a:solidFill>
                <a:latin typeface="Times New Roman"/>
                <a:ea typeface="Times New Roman"/>
              </a:rPr>
              <a:t>(o, ö, u, ü) </a:t>
            </a:r>
            <a:r>
              <a:rPr b="0" lang="tr-TR" sz="2800" spc="-1" strike="noStrike">
                <a:solidFill>
                  <a:srgbClr val="000000"/>
                </a:solidFill>
                <a:latin typeface="Times New Roman"/>
                <a:ea typeface="Times New Roman"/>
              </a:rPr>
              <a:t>ise, düz geniş </a:t>
            </a:r>
            <a:r>
              <a:rPr b="0" lang="tr-TR" sz="2800" spc="-1" strike="noStrike">
                <a:solidFill>
                  <a:srgbClr val="ff0000"/>
                </a:solidFill>
                <a:latin typeface="Times New Roman"/>
                <a:ea typeface="Times New Roman"/>
              </a:rPr>
              <a:t>(a, e) </a:t>
            </a:r>
            <a:r>
              <a:rPr b="0" lang="tr-TR" sz="2800" spc="-1" strike="noStrike">
                <a:solidFill>
                  <a:srgbClr val="000000"/>
                </a:solidFill>
                <a:latin typeface="Times New Roman"/>
                <a:ea typeface="Times New Roman"/>
              </a:rPr>
              <a:t>veya dar yuvarlaklar </a:t>
            </a:r>
            <a:r>
              <a:rPr b="0" lang="tr-TR" sz="2800" spc="-1" strike="noStrike">
                <a:solidFill>
                  <a:srgbClr val="ff0000"/>
                </a:solidFill>
                <a:latin typeface="Times New Roman"/>
                <a:ea typeface="Times New Roman"/>
              </a:rPr>
              <a:t>(u, ü) </a:t>
            </a:r>
            <a:r>
              <a:rPr b="0" lang="tr-TR" sz="2800" spc="-1" strike="noStrike">
                <a:solidFill>
                  <a:srgbClr val="000000"/>
                </a:solidFill>
                <a:latin typeface="Times New Roman"/>
                <a:ea typeface="Times New Roman"/>
              </a:rPr>
              <a:t>takip eder: </a:t>
            </a:r>
            <a:r>
              <a:rPr b="0" lang="tr-TR" sz="2800" spc="-1" strike="noStrike">
                <a:solidFill>
                  <a:srgbClr val="ff0000"/>
                </a:solidFill>
                <a:latin typeface="Times New Roman"/>
                <a:ea typeface="Times New Roman"/>
              </a:rPr>
              <a:t>ocak, oduncular, uzatma, üçüncü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3840" y="214200"/>
            <a:ext cx="8472600" cy="5911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tonlu (sedalı) ünsüzler (b, c, d, g, ğ, j, m, n, r, v, y, z) tonlu ünsüzlerle, tonsuz (sedasız) ünsüzler (ç, f, h, k, p, s, ş, t) tonsuz ünsüzlerle yan yana gelebil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Aşçı, atkı, geçti, evc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13840" y="142920"/>
            <a:ext cx="8472600" cy="5983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Ünlü-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art damak “k(a), g(ı), ğ(ı), l(ı)” ünsüzlerinin art (kalın) ünlülerle(a, ı, o, u), ön damak “g(e), k(e), l(i)” ünsüzlerinin ön (ince) ünlülerle (e, i, ö, ü) aynı hecede bulunmasından ortaya çıkan bir uyumdu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Bozgun, kuzgun, tatlı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örüntü, kesik,  gez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 OLAYLARI</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eslerin kelimelerde birleşmesi sırasında bir takım olaylar meydana gelir. İşte bunlara ses olayları denir. Başlıcaları şunlardı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Türemesi: </a:t>
            </a:r>
            <a:r>
              <a:rPr b="0" lang="tr-TR" sz="2800" spc="-1" strike="noStrike">
                <a:solidFill>
                  <a:srgbClr val="000000"/>
                </a:solidFill>
                <a:latin typeface="Times New Roman"/>
                <a:ea typeface="Times New Roman"/>
              </a:rPr>
              <a:t>Kelimenin aslında bulunmayan bir ünlünün kelimenin başı, ortası ya da sonunda ortaya çıkmasıdır. </a:t>
            </a:r>
            <a:r>
              <a:rPr b="0" lang="tr-TR" sz="2800" spc="-1" strike="noStrike">
                <a:solidFill>
                  <a:srgbClr val="00b0f0"/>
                </a:solidFill>
                <a:latin typeface="Times New Roman"/>
                <a:ea typeface="Times New Roman"/>
              </a:rPr>
              <a:t>i</a:t>
            </a:r>
            <a:r>
              <a:rPr b="0" lang="tr-TR" sz="2800" spc="-1" strike="noStrike">
                <a:solidFill>
                  <a:srgbClr val="000000"/>
                </a:solidFill>
                <a:latin typeface="Times New Roman"/>
                <a:ea typeface="Times New Roman"/>
              </a:rPr>
              <a:t>stasyon, </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stampa, şük</a:t>
            </a:r>
            <a:r>
              <a:rPr b="0" lang="tr-TR" sz="2800" spc="-1" strike="noStrike">
                <a:solidFill>
                  <a:srgbClr val="00b0f0"/>
                </a:solidFill>
                <a:latin typeface="Times New Roman"/>
                <a:ea typeface="Times New Roman"/>
              </a:rPr>
              <a:t>ü</a:t>
            </a:r>
            <a:r>
              <a:rPr b="0" lang="tr-TR" sz="2800" spc="-1" strike="noStrike">
                <a:solidFill>
                  <a:srgbClr val="000000"/>
                </a:solidFill>
                <a:latin typeface="Times New Roman"/>
                <a:ea typeface="Times New Roman"/>
              </a:rPr>
              <a:t>r, az</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cık, giderken</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57120" y="500040"/>
            <a:ext cx="8329680" cy="5626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in söz varlığını oluşturan kelimelerin kuruluşunda ses özellikleri birinci derecede rol oynar. Sesler birleşerek heceleri, heceler birleşerek kelimeleri oluşturur. Ancak bu birleşme gelişigüzel değil dilin ses özelliklerine göre, dilin kanunlarına göre, bir düzen içerisinde gerçekleşir. Her dilin kendine özgü sesleri olduğu gibi bu seslerin yan yana gelmeleri, kelime başında, ortasında veya sonunda bulunmaları belli kurallara bağlıdır. Dilin temelini oluşturan seslerin bu düzenine ses özellikleri diyoruz.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nin belli başlı ses özelliklerini şöyle sıralaya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71280" y="692280"/>
            <a:ext cx="796284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üşmesi: </a:t>
            </a:r>
            <a:r>
              <a:rPr b="0" lang="tr-TR" sz="2800" spc="-1" strike="noStrike">
                <a:solidFill>
                  <a:srgbClr val="000000"/>
                </a:solidFill>
                <a:latin typeface="Times New Roman"/>
                <a:ea typeface="Times New Roman"/>
              </a:rPr>
              <a:t>Genellikle orta hecenin vurgusuz olmasından dolayı ortadaki dar ünlünün düşmesidir. </a:t>
            </a:r>
            <a:r>
              <a:rPr b="0" lang="tr-TR" sz="2800" spc="-1" strike="noStrike">
                <a:solidFill>
                  <a:srgbClr val="00b0f0"/>
                </a:solidFill>
                <a:latin typeface="Times New Roman"/>
                <a:ea typeface="Times New Roman"/>
              </a:rPr>
              <a:t>Oğulu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oğlu</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ömürüm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ömrüm…</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eğişmesi: </a:t>
            </a:r>
            <a:r>
              <a:rPr b="0" lang="tr-TR" sz="2800" spc="-1" strike="noStrike">
                <a:solidFill>
                  <a:srgbClr val="000000"/>
                </a:solidFill>
                <a:latin typeface="Times New Roman"/>
                <a:ea typeface="Times New Roman"/>
              </a:rPr>
              <a:t>Orta hecedeki vurgusuz ünlü bazen düşmez, sadece  değişir. Örneğin, </a:t>
            </a:r>
            <a:r>
              <a:rPr b="0" lang="tr-TR" sz="2800" spc="-1" strike="noStrike">
                <a:solidFill>
                  <a:srgbClr val="00b0f0"/>
                </a:solidFill>
                <a:latin typeface="Times New Roman"/>
                <a:ea typeface="Times New Roman"/>
              </a:rPr>
              <a:t>başla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aşlıyo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bilme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ilmiyor</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Birleşmesi: </a:t>
            </a:r>
            <a:r>
              <a:rPr b="0" lang="tr-TR" sz="2800" spc="-1" strike="noStrike">
                <a:solidFill>
                  <a:srgbClr val="000000"/>
                </a:solidFill>
                <a:latin typeface="Times New Roman"/>
                <a:ea typeface="Times New Roman"/>
              </a:rPr>
              <a:t>Ünlü ile biten bir kelimenin ünlü ile başlayan bir ek alması ya da ünlü ile başlayan bir başka kelime ile birleşmesi durumunda ünlülerden birinin düşmesidir. </a:t>
            </a:r>
            <a:r>
              <a:rPr b="0" lang="tr-TR" sz="2800" spc="-1" strike="noStrike">
                <a:solidFill>
                  <a:srgbClr val="00b0f0"/>
                </a:solidFill>
                <a:latin typeface="Times New Roman"/>
                <a:ea typeface="Times New Roman"/>
              </a:rPr>
              <a:t>Kahvealtı</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ahvaltı</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ne için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niçin</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00000" y="692280"/>
            <a:ext cx="803448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Türemesi: </a:t>
            </a:r>
            <a:r>
              <a:rPr b="0" lang="tr-TR" sz="2800" spc="-1" strike="noStrike">
                <a:solidFill>
                  <a:srgbClr val="000000"/>
                </a:solidFill>
                <a:latin typeface="Times New Roman"/>
                <a:ea typeface="Times New Roman"/>
              </a:rPr>
              <a:t>Kelimenin aslında bulunmayan bir ünsüzün sonradan ortaya çıkmasıdır. </a:t>
            </a:r>
            <a:r>
              <a:rPr b="0" lang="tr-TR" sz="2800" spc="-1" strike="noStrike">
                <a:solidFill>
                  <a:srgbClr val="00b0f0"/>
                </a:solidFill>
                <a:latin typeface="Times New Roman"/>
                <a:ea typeface="Times New Roman"/>
              </a:rPr>
              <a:t>u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vu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ıldız</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ıldız</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kılıç</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ılınç</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şimd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şimdik, su-y-a, bilgi-</a:t>
            </a:r>
            <a:r>
              <a:rPr b="0" lang="tr-TR" sz="2800" spc="-1" strike="noStrike">
                <a:solidFill>
                  <a:srgbClr val="558ed5"/>
                </a:solidFill>
                <a:latin typeface="Times New Roman"/>
                <a:ea typeface="Times New Roman"/>
              </a:rPr>
              <a:t>y</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Düşmesi: </a:t>
            </a:r>
            <a:r>
              <a:rPr b="0" lang="tr-TR" sz="2800" spc="-1" strike="noStrike">
                <a:solidFill>
                  <a:srgbClr val="000000"/>
                </a:solidFill>
                <a:latin typeface="Times New Roman"/>
                <a:ea typeface="Times New Roman"/>
              </a:rPr>
              <a:t>Kelimedeki ünsüzlerden birinin çeşitli sebeplerle düşmesidir. Mesela, </a:t>
            </a:r>
            <a:r>
              <a:rPr b="0" lang="tr-TR" sz="2800" spc="-1" strike="noStrike">
                <a:solidFill>
                  <a:srgbClr val="00b0f0"/>
                </a:solidFill>
                <a:latin typeface="Times New Roman"/>
                <a:ea typeface="Times New Roman"/>
              </a:rPr>
              <a:t>küçükcü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üçücük</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yumuşakcı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umuşacık</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Yer değiştirme (göçüşme): </a:t>
            </a:r>
            <a:r>
              <a:rPr b="0" lang="tr-TR" sz="2800" spc="-1" strike="noStrike">
                <a:solidFill>
                  <a:srgbClr val="000000"/>
                </a:solidFill>
                <a:latin typeface="Times New Roman"/>
                <a:ea typeface="Times New Roman"/>
              </a:rPr>
              <a:t>Bir kelimede yan yana gelen seslerin yerlerinin değişmesi olayıdır. </a:t>
            </a:r>
            <a:r>
              <a:rPr b="0" lang="tr-TR" sz="2800" spc="-1" strike="noStrike">
                <a:solidFill>
                  <a:srgbClr val="00b0f0"/>
                </a:solidFill>
                <a:latin typeface="Times New Roman"/>
                <a:ea typeface="Times New Roman"/>
              </a:rPr>
              <a:t>kibrit</a:t>
            </a:r>
            <a:r>
              <a:rPr b="0" lang="tr-TR" sz="2800" spc="-1" strike="noStrike">
                <a:solidFill>
                  <a:srgbClr val="000000"/>
                </a:solidFill>
                <a:latin typeface="Times New Roman"/>
                <a:ea typeface="Times New Roman"/>
              </a:rPr>
              <a:t> yerine</a:t>
            </a:r>
            <a:r>
              <a:rPr b="0" lang="tr-TR" sz="2800" spc="-1" strike="noStrike">
                <a:solidFill>
                  <a:srgbClr val="00b0f0"/>
                </a:solidFill>
                <a:latin typeface="Times New Roman"/>
                <a:ea typeface="Times New Roman"/>
              </a:rPr>
              <a:t> kirbit</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ekş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eşki</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memleket</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melmeket</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71280" y="333000"/>
            <a:ext cx="7962840" cy="59151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Hece Düşmesi: </a:t>
            </a:r>
            <a:r>
              <a:rPr b="0" lang="tr-TR" sz="2800" spc="-1" strike="noStrike">
                <a:solidFill>
                  <a:srgbClr val="000000"/>
                </a:solidFill>
                <a:latin typeface="Times New Roman"/>
                <a:ea typeface="Times New Roman"/>
              </a:rPr>
              <a:t>Ard arda gelen ve sesleri benzeyen iki hecenin bir hece haline gelmesidir. </a:t>
            </a:r>
            <a:r>
              <a:rPr b="0" lang="tr-TR" sz="2800" spc="-1" strike="noStrike">
                <a:solidFill>
                  <a:srgbClr val="00b0f0"/>
                </a:solidFill>
                <a:latin typeface="Times New Roman"/>
                <a:ea typeface="Times New Roman"/>
              </a:rPr>
              <a:t>Pekiyi-peki, kilitlemek-kitlemek, söyleyeyim-söyleyim</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enzeşme: </a:t>
            </a:r>
            <a:r>
              <a:rPr b="0" lang="tr-TR" sz="2800" spc="-1" strike="noStrike">
                <a:solidFill>
                  <a:srgbClr val="000000"/>
                </a:solidFill>
                <a:latin typeface="Times New Roman"/>
                <a:ea typeface="Times New Roman"/>
              </a:rPr>
              <a:t>Seslerden birinin diğerini kendisine benzetmesi olayıdır. Seda benzeşmesi, oluşum noktası benzeşmesi, geniz benzeşmesi, düzlük yuvarlaklık benzeşmesi gibi.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a:t>
            </a:r>
            <a:r>
              <a:rPr b="0" lang="tr-TR" sz="2800" spc="-1" strike="noStrike">
                <a:solidFill>
                  <a:srgbClr val="00b0f0"/>
                </a:solidFill>
                <a:latin typeface="Times New Roman"/>
                <a:ea typeface="Times New Roman"/>
              </a:rPr>
              <a:t>ld</a:t>
            </a:r>
            <a:r>
              <a:rPr b="0" lang="tr-TR" sz="2800" spc="-1" strike="noStrike">
                <a:solidFill>
                  <a:srgbClr val="000000"/>
                </a:solidFill>
                <a:latin typeface="Times New Roman"/>
                <a:ea typeface="Times New Roman"/>
              </a:rPr>
              <a:t>ı, ge</a:t>
            </a:r>
            <a:r>
              <a:rPr b="0" lang="tr-TR" sz="2800" spc="-1" strike="noStrike">
                <a:solidFill>
                  <a:srgbClr val="00b0f0"/>
                </a:solidFill>
                <a:latin typeface="Times New Roman"/>
                <a:ea typeface="Times New Roman"/>
              </a:rPr>
              <a:t>çt</a:t>
            </a:r>
            <a:r>
              <a:rPr b="0" lang="tr-TR" sz="2800" spc="-1" strike="noStrike">
                <a:solidFill>
                  <a:srgbClr val="000000"/>
                </a:solidFill>
                <a:latin typeface="Times New Roman"/>
                <a:ea typeface="Times New Roman"/>
              </a:rPr>
              <a:t>i;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anbar-ambar, sünbül-sümbül;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ben-men, binmek-minmek;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çünki-çünkü, karşu-karşı, kaygu-kaygı</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ELİME İNCELEMELERİ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Olmayan Kelime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Vilâye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Uzun ünlü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Kelime başında v sesi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onitör:</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1. Kelime başında m sesi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Ünlü uyumu yok. </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lk hece dışında ö kullanılmı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13840" y="356760"/>
            <a:ext cx="847260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Faks:  </a:t>
            </a:r>
            <a:r>
              <a:rPr b="0" lang="tr-TR" sz="2800" spc="-1" strike="noStrike">
                <a:solidFill>
                  <a:srgbClr val="000000"/>
                </a:solidFill>
                <a:latin typeface="Times New Roman"/>
                <a:ea typeface="Times New Roman"/>
              </a:rPr>
              <a:t>1. f sesi va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Kelime sonunda –ks ünsüz grubu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Teşekkür: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kiz ünsüz va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13840" y="285480"/>
            <a:ext cx="8472600" cy="58402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ürâca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Başta m sesi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ki ünlü yan yana gel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4. Uzun ünlü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799D-7C61-40FD-9574-BABA98944B72}"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 UZUN ÜNLÜ</a:t>
            </a:r>
            <a:endParaRPr b="0" lang="en-US" sz="32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asıllı kelimelerde bir iki istisna dışında  (yad, yarın) uzun ünlü yoktur. Buna karşılık Türkçeye yabancı dillerden girmiş kelimelerde uzun a,i,u (â,î,û) ünlüleri bol bol ve rahatça kullanılmakt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Kâtip, istiklâl, âlem, şâir vb.</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 O, Ö ÜNLÜLERİ</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o ve ö” ünlüleri (-yor eki dışında) yalnız ilk hecede bulunurlar.İlk hece dışında “o ve ö” ünlülerini taşıyan kelimeler Türkçe değil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Otomobil,rektör, traktör,radyo,horoz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 J, F, H SESLERİ</a:t>
            </a: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J sesi taşıyan bütün kelimeler dilimize başka dillerden girmiştir: </a:t>
            </a:r>
            <a:r>
              <a:rPr b="0" lang="tr-TR" sz="2800" spc="-1" strike="noStrike">
                <a:solidFill>
                  <a:srgbClr val="ff0000"/>
                </a:solidFill>
                <a:latin typeface="Times New Roman"/>
                <a:ea typeface="Times New Roman"/>
              </a:rPr>
              <a:t>Jandarma, jilet, jokey, jüri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kaç istisna dışında (öfke, yufka) f sesi taşıyan kelimeler dilimize başka dillerden girmiştir: </a:t>
            </a:r>
            <a:r>
              <a:rPr b="0" lang="tr-TR" sz="2800" spc="-1" strike="noStrike">
                <a:solidFill>
                  <a:srgbClr val="ff0000"/>
                </a:solidFill>
                <a:latin typeface="Times New Roman"/>
                <a:ea typeface="Times New Roman"/>
              </a:rPr>
              <a:t>Misafir, fesat, felsefe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ani, hangi, dahi dışında h sesi taşıyan kelimeler de dilimize başka dillerden girmiştir: </a:t>
            </a:r>
            <a:r>
              <a:rPr b="0" lang="tr-TR" sz="2800" spc="-1" strike="noStrike">
                <a:solidFill>
                  <a:srgbClr val="ff0000"/>
                </a:solidFill>
                <a:latin typeface="Times New Roman"/>
                <a:ea typeface="Times New Roman"/>
              </a:rPr>
              <a:t>Harika, hamur, handan, halte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tr-TR" sz="3200" spc="-1" strike="noStrike">
                <a:solidFill>
                  <a:srgbClr val="000000"/>
                </a:solidFill>
                <a:latin typeface="Times New Roman"/>
                <a:ea typeface="Times New Roman"/>
              </a:rPr>
              <a:t>4.BAŞTA BULUNMAYAN SESLER</a:t>
            </a:r>
            <a:br>
              <a:rPr sz="3200"/>
            </a:br>
            <a:endParaRPr b="0" lang="en-US" sz="32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c,ğ, l, m, n, r, v, z </a:t>
            </a:r>
            <a:r>
              <a:rPr b="0" lang="tr-TR" sz="2800" spc="-1" strike="noStrike">
                <a:solidFill>
                  <a:srgbClr val="000000"/>
                </a:solidFill>
                <a:latin typeface="Times New Roman"/>
                <a:ea typeface="Times New Roman"/>
              </a:rPr>
              <a:t> sesleri Türkçe kelimelerde başta bulunma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ehennem, lira, metal, naylon, reçel, vakum, zaman vb. </a:t>
            </a:r>
            <a:r>
              <a:rPr b="0" lang="tr-TR" sz="2800" spc="-1" strike="noStrike">
                <a:solidFill>
                  <a:srgbClr val="000000"/>
                </a:solidFill>
                <a:latin typeface="Times New Roman"/>
                <a:ea typeface="Times New Roman"/>
              </a:rPr>
              <a:t>kelimeler Türkçeye başka dillerden girmişt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yüzden halk dilinde bu sesleri başında taşıyan bazı kelimelerin başına ünlü ilave ed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Limon&gt;ilim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Ramazan&gt; ıramaz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5.SONDA BULUNMAYAN SESLER</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b,c,d,g,ğ </a:t>
            </a:r>
            <a:r>
              <a:rPr b="0" lang="tr-TR" sz="3200" spc="-1" strike="noStrike">
                <a:solidFill>
                  <a:srgbClr val="000000"/>
                </a:solidFill>
                <a:latin typeface="Times New Roman"/>
                <a:ea typeface="Times New Roman"/>
              </a:rPr>
              <a:t>sesleri kelime ve hece sonunda bulunmaz. Alıntı kelimelerdeki bu sesler sert karşılıkları olan </a:t>
            </a:r>
            <a:r>
              <a:rPr b="0" lang="tr-TR" sz="3200" spc="-1" strike="noStrike">
                <a:solidFill>
                  <a:srgbClr val="ff0000"/>
                </a:solidFill>
                <a:latin typeface="Times New Roman"/>
                <a:ea typeface="Times New Roman"/>
              </a:rPr>
              <a:t>p,ç,t,k</a:t>
            </a:r>
            <a:r>
              <a:rPr b="0" lang="tr-TR" sz="3200" spc="-1" strike="noStrike">
                <a:solidFill>
                  <a:srgbClr val="000000"/>
                </a:solidFill>
                <a:latin typeface="Times New Roman"/>
                <a:ea typeface="Times New Roman"/>
              </a:rPr>
              <a:t> ünsüzlerine çevrilir:</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kitab &gt; kitap</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İlac &gt; ila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erd &gt; dert</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Aheng &gt; ahenk</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6. İKİZ ÜNSÜZ</a:t>
            </a:r>
            <a:endParaRPr b="0" lang="en-US" sz="32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 asıllı kelime köklerinde bir iki istisna dışında (anne, elli) ikiz ünsüz bulunmaz:</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Millet,okka, mahalle, cadde, pizza, ralli v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7. KELİME KÖKÜNDEKİ ÜNSÜZLER</a:t>
            </a:r>
            <a:endParaRPr b="0" lang="en-US" sz="32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 kökünde ikiden fazla ünsüz yan yana gelme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Elektrik, kontrol, strateji vb.</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Peki “Türkçe” kelimesi Türkçe m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tuba</cp:lastModifiedBy>
  <dcterms:modified xsi:type="dcterms:W3CDTF">2014-10-15T11:15:38Z</dcterms:modified>
  <cp:revision>60</cp:revision>
  <dc:subject/>
  <dc:title>Slayt 1</dc:title>
</cp:coreProperties>
</file>